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FD0-786F-4C39-AB5B-53C3F7A0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714-8D3D-4B54-B3A3-E5F1523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9B2-2C51-4FF7-8366-6613B4F2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57E-3D32-4AF1-9DDA-17793FBA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D36-AA78-471D-87D0-C210A7EA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FDBA-F6FB-45F3-BBAA-9051BB19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010-D61E-4EF1-869F-A453147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F3F-037E-4425-9144-F88CB0D0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082B-9BE3-432B-8301-C661A8A8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7A9-F20C-44FB-B32E-C8B286D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53DF-83BC-430A-865F-BA57FCA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321-CFEF-4F8F-A2E1-B15F0DCD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9BF-60B8-4F80-A0A3-D62297A3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00E-F12E-42DE-BB81-51A7A79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BA43-0F11-4FD9-BDE9-9ED282B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29EF-2330-42E6-8C24-66F4C339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1800-2A9D-494B-AE49-4FDE126F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C56D3-0597-485E-8D7D-BE905EDA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409EE-9A6B-459C-B794-0DC8F4BA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96F52-8F7A-4DAA-B6C6-6D6FA2AB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EB3F1-40E3-489B-880D-EA1B2505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ABEBD-1D8E-4FFD-AB40-44DF706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2CE-F52D-4366-ABBE-71F11AFA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DAD57-CE80-4FD0-A5B8-6ECE5C1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36CF0-1BD5-4E30-B7C8-AA652BA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F8893-8C0A-4F16-8013-15F2F80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E3CFA-5217-4963-A444-13282E8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BBE43-0C4D-4BCC-A3CC-A172807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F9559-204C-4072-97F0-F04472A3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59DF4-DAC3-4B5F-820A-15F507BE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C7B8-40E1-42A0-A8C6-3CDD4043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71D4-327C-4560-BD75-50221AE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3205-477D-473C-9558-0B3D4D5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501-5C7E-4388-BE43-6AE38604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53F2-E26A-429F-AD2A-3AFB24C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5366-F988-4DEF-B074-E4CDDE0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8766-95A3-44AB-ADA5-AAE7745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3D3B-C5EC-4D74-825E-5491C63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BEE7-EDDF-449D-A948-32B9BE6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A72C-6FC2-4FBB-B9A8-BBAECE0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C64D-BC01-4B79-8F11-59D7F94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A4B1-F706-4D73-B273-314B5529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E738-4273-43DE-98F3-C83E9FBC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E46-6740-4348-A6A1-4CDB284B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BDD-E14D-4CCD-9658-D7EF4588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A68-7FAD-49B0-BD7A-C19DCD0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070-5443-4331-AF7D-FC6FBFC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1AB-5CA2-467B-BA61-8F3E17C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C91B-682E-4247-A9BC-5328B6482F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9F1-9129-4EE9-988F-0E924149B8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8C4-2C67-418D-A39C-B03502114B7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291-41A0-4C7C-8AB1-EA34B07EDF2C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ectricity At Wor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68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trina and H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ope you enjoyed our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arned mo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ity at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Blackadder ITC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ating materials can be charged with static electricity by rubbing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electricity can make things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kinds of charge, positive and negative.                                                                                                                 Positive + Negative = Attraction                                         Negative + Negative = No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+ Positive = No Attraction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s &amp;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is made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have both  positive &amp;  negativ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charge is on the protons and the negative charge is on th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 rub a polythene rod with a cloth some of the electrons  move from the cloth to the rod. The rod now has a negative charge and the cloth has a posi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lectrons can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under &amp; Light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nder and lightning is caused when a cloud becomes charged with static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build up causes a s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under noise is caused by the lightning jumping between the cloud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ning conductors help to protect buil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magnets are fixed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can be used to find No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 magnet can be used to make a pin into a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north poles and two south poles will re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poles will at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ic fiel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ace around a magnet is called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filings can be used to find the shape of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fields go from north to s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currents can be used to make electro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magnet is an iron rod with a coil of wire wrapped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ere is electricity flowing through the wire the electromagnet will work like a bar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can be used to make buzzers &amp; b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lay is a switch that is turned on &amp; off by an electro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ed switch that is turned on &amp; off by a electromagnet is called a reed re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ys are used to make switches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s use relay switches to  turn on the starter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lots of uses for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are used in loudspeakers, fridge doors &amp; sump plu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rains use electromagnets instead of whe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are used to move iron &amp; 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15Z</dcterms:created>
  <dc:creator>macleankatr</dc:creator>
  <dc:description/>
  <dc:language>en-US</dc:language>
  <cp:lastModifiedBy>GashH</cp:lastModifiedBy>
  <dcterms:modified xsi:type="dcterms:W3CDTF">2006-01-26T15:25:21Z</dcterms:modified>
  <cp:revision>6</cp:revision>
  <dc:subject/>
  <dc:title>Electricity At Work</dc:title>
</cp:coreProperties>
</file>